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0CB7F-AF6C-4F82-AB3D-2CC6CC94A5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81927-CA09-410E-8E09-27DF2075E0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90528-E83A-4F79-9F9E-4010E8DDF5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7A0D9-4AFD-47B0-B70E-F5D512C993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18026-705A-4F49-90D2-71B8D7D36D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7A8E5-8239-4A89-8106-B867189DD0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BA9F9-EEBB-43C7-ABC6-5694B660E1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7A0F7-4C86-4B68-998F-D76214697F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F7D6D-C58A-4D6A-AC1B-1CD80E468B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E5A66-B6A4-4B10-AC52-558EFD9443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FE14C-F44F-4A06-BBF8-8236BD75B8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1B58D-9962-4205-8160-88CA79BB88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87C33-5254-400C-9CB3-1BCFE8565495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4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  <p:sp>
        <p:nvSpPr>
          <p:cNvPr id="3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56080" y="3335400"/>
            <a:ext cx="55879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Look Back as we Move Forw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andy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7205760" y="3728880"/>
          <a:ext cx="1746000" cy="98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5760" y="3728880"/>
                    <a:ext cx="1746000" cy="9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ummary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72640" y="14317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ose who cannot remember the past are condemned to repeat it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George Santay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Objective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12920" y="1461600"/>
            <a:ext cx="8346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ry of DISA – celebrating its 2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ry of DI / WDI – celebrating its 1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e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olution of E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 for the 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5240" y="2138400"/>
            <a:ext cx="8605800" cy="26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hose who cannot remember the past are condemned to repeat it.”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George Santayan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f you don’t take a mental picture to see where you were versus where you are – you will never realize just how far you have come.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andy Smith,  eSI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Looking back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068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89 - Events of th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n Family Income: $34,2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n Price Of A New House: $12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Car: $14,64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lon of Gas: $1.0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f Of Bread: $0.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age Stamp: $0.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e Interest Rate Reaches 21.5%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History of DISA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2760" y="1122120"/>
            <a:ext cx="7413840" cy="46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79 - ANSI designated an “Accredited Standards Committee for EDI – ASC X1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79 - First standard based on TDCC structu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82 - Publication of Version 1 of American National Standards, which are ANSI certified releases of draft X12 standa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86 - X12F Finance Subcommittee forms to serve the B2B needs of the financial indust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0 - Alignment Task Group to recommend steps to converge X12 standards and EDIFACT messag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1 - X12N Insurance Subcommittee created to serve the B2B need of the insurance and healthcare industr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6 - ASC X12 is instrumental in having language included in HIPA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8 - ASC X12 eyes modeled approach to Object Oriented EDI and the potential synergy of X12 EDI and XML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0 - The Health Insurance Portability &amp; Accountability Act (HIPAA) transaction regulation is published adopting nine X12 transactions for the health care industry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3 - Gartner praises ASC X12's syntax neutral architecture - Context Inspired Component Architecture - enabling the development of XML business messages and encourages a CICA-like approach for XML business developmen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History of DI/WDI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12400" y="1068480"/>
            <a:ext cx="3411720" cy="35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8280" indent="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89 - Version 1.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0 - version 1.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1 - Version 1.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3 - Version 1.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5 - Version 1.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7 - Version 2.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8 - Version 3.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 - WDI 3.1 MP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 - WDI 3.2 MP 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3 - WDI 3.2 z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volution  of EDI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211400" y="1273320"/>
            <a:ext cx="4714560" cy="39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.12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FA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89 - 203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89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0 - 204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90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1 - 3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91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3 - 303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93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 - 305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95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 - 307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97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8 - 4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98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00 - 403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00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04 - 5010 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04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 Today and Tomorrow </a:t>
            </a:r>
            <a:br>
              <a:rPr sz="2400"/>
            </a:br>
            <a:r>
              <a:rPr b="1" lang="en-US" sz="2400" spc="-1" strike="noStrike">
                <a:solidFill>
                  <a:srgbClr val="7889fb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7889fb"/>
                </a:solidFill>
                <a:latin typeface="Arial"/>
              </a:rPr>
              <a:t>The tides have turned)</a:t>
            </a:r>
            <a:endParaRPr b="0" lang="en-US" sz="1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 renew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ne 14, 2004 – Computerworld - EDI: Alive and Well After All These Years - Transactions increase despite XML op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iant opens his e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ch 22, 2004 – ZDNet - Microsoft updates business offerings - The company said the network can now process documents based on the electronic data interchange (EDI) standa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I and XML co-exi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 Today and Tomorrow </a:t>
            </a:r>
            <a:br>
              <a:rPr sz="2400"/>
            </a:br>
            <a:r>
              <a:rPr b="1" lang="en-US" sz="2400" spc="-1" strike="noStrike">
                <a:solidFill>
                  <a:srgbClr val="7889fb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7889fb"/>
                </a:solidFill>
                <a:latin typeface="Arial"/>
              </a:rPr>
              <a:t>The tides have turned)</a:t>
            </a:r>
            <a:endParaRPr b="0" lang="en-US" sz="1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DI 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 is still going str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rester research Inc -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4-09-09T17:48:02Z</dcterms:modified>
  <cp:revision>887</cp:revision>
  <dc:subject/>
  <dc:title>IBM Software Group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9654978</vt:r8>
  </property>
  <property fmtid="{D5CDD505-2E9C-101B-9397-08002B2CF9AE}" pid="3" name="_AuthorEmail">
    <vt:lpwstr>Charles.Ferrise@bnsf.com</vt:lpwstr>
  </property>
  <property fmtid="{D5CDD505-2E9C-101B-9397-08002B2CF9AE}" pid="4" name="_AuthorEmailDisplayName">
    <vt:lpwstr>Ferrise, Charles W</vt:lpwstr>
  </property>
  <property fmtid="{D5CDD505-2E9C-101B-9397-08002B2CF9AE}" pid="5" name="_EmailSubject">
    <vt:lpwstr>Th-LookBack.ppt</vt:lpwstr>
  </property>
  <property fmtid="{D5CDD505-2E9C-101B-9397-08002B2CF9AE}" pid="6" name="_ReviewingToolsShownOnce">
    <vt:lpwstr/>
  </property>
</Properties>
</file>