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20AABE-D12B-4AEE-B09F-FFDE0DDCD7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D828DC-D631-400D-A011-73C3A2FAF9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605A68-5811-4E8D-8F35-1EECD65F3E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B8CF0D-FA2F-4C91-834D-44863C3F53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BE4408-8968-4EE9-98EA-D525D85093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C12E27-8EC9-4CDD-9ED2-528830373C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058A05-DC01-4B48-853D-1D7980C254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153E3B-9CC0-43BD-93BE-9AC55E9CE0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4D1FFF-6539-45C2-8E2F-11A9D3B0CD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DF5F83-53E1-476E-8DBA-7E6D6D236E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FA99BF-B109-40B3-B0DF-1CBA05C3F2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525666-BE59-451E-87B0-296EC2D342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532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5000"/>
              </a:lnSpc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15000"/>
              </a:lnSpc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15000"/>
              </a:lnSpc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1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1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37480" y="52560"/>
            <a:ext cx="371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  |  WebSphere softw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502320"/>
            <a:ext cx="59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Global Business Transform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91240" y="6499080"/>
            <a:ext cx="3340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4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154080" y="65019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4266B-251D-45CD-A7CD-E88F42C42F33}" type="slidenum"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1447920" y="141120"/>
            <a:ext cx="0" cy="23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1447920" y="647856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0" y="6175440"/>
            <a:ext cx="1457280" cy="29988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" name="" descr=""/>
          <p:cNvPicPr/>
          <p:nvPr/>
        </p:nvPicPr>
        <p:blipFill>
          <a:blip r:embed="rId3"/>
          <a:stretch/>
        </p:blipFill>
        <p:spPr>
          <a:xfrm>
            <a:off x="1442880" y="6175440"/>
            <a:ext cx="7710480" cy="29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516744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7524720" y="687240"/>
            <a:ext cx="1001880" cy="4003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200664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762200" y="5491080"/>
            <a:ext cx="444168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324560" y="62704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4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186228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6842160" y="5418000"/>
            <a:ext cx="1946160" cy="3524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0" y="4716360"/>
            <a:ext cx="471600" cy="45720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8360" y="4716360"/>
            <a:ext cx="47160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936720" y="4716360"/>
            <a:ext cx="471240" cy="457200"/>
          </a:xfrm>
          <a:prstGeom prst="rect">
            <a:avLst/>
          </a:prstGeom>
          <a:solidFill>
            <a:srgbClr val="01a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405080" y="4716360"/>
            <a:ext cx="47124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1155600" y="4070520"/>
            <a:ext cx="2075040" cy="3013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1863720" y="4711680"/>
            <a:ext cx="7294680" cy="45576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7920" algn="ctr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115000"/>
              </a:lnSpc>
              <a:spcBef>
                <a:spcPts val="451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115000"/>
              </a:lnSpc>
              <a:spcBef>
                <a:spcPts val="451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115000"/>
              </a:lnSpc>
              <a:spcBef>
                <a:spcPts val="561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1812960"/>
            <a:ext cx="630072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4 WDI / WBIC Customer Conference </a:t>
            </a:r>
            <a:br>
              <a:rPr sz="28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Global Business Trans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072040" y="3705120"/>
            <a:ext cx="375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556080" y="3335400"/>
            <a:ext cx="558792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igrating to WDI 3.2 on Win2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ee Edenfiel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anager e-Commerce System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Hagemeyer North America, Inc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Why we chose WDI 3.2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797040" y="14616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miliarity – we’ve been using DI since 199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se of migration from DI 2.1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se of future migr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BM Patterns for e-Busi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BM decision to include DI in Websphere fami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 for older EDI standa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DACOMS, ODETTE, UCS, X.12 V2R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 for new XML standa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AGIS BODs, Commerce 1 xCBL, Rosetta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QSeries sup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Why we chose Windows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97040" y="14616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6080" indent="-226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certainty about future ERP platfo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-28296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/390, AS/400, Unix? Some combination?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-28296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erything now has a Windows 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ed to extend the life of our S/39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-28296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layed implementation of replacement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-28296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jected business growth through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ck of AIX expertise and exper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formance seemed adequ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eadth of tools avail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rlier release of new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w entry c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608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Why we chose Data Transformation maps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97040" y="14616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BM told us to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sier future mig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tter Websphere 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’t have to learn both mapp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tter XML sup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y to any (almos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esigning data forma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ML Hagemeyer Business Message (HB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were going to re-map everything anyw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liked the mapper bett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What we thought we were going to do…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97040" y="14616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205560" indent="-20556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message based integration hub architecture based on IBM Patterns for e-Busi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5560" indent="-20556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rmalize all documents to HBM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5560" indent="-20556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MQSeries for message trans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5560" indent="-20556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MQSeries Integrator fo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5720" indent="-2570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sage rou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5720" indent="-2570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ple” data trans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5720" indent="-2570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sage archi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5560" indent="-20556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WDI for “complex” data trans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5560" indent="-20556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MQSeries Workflow fo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5720" indent="-2570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d-to-end audi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5720" indent="-2570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ng running transaction 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Major design point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19240" indent="-21924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cti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432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t support existing business requir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432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t be able to support new business requir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exi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432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t be able to easily accommodate changes in the operating enviro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432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t be able to handle the lo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432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ponse time requirements are getting shor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tform independ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432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e Flexibility and Perform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June 2002 we started to build it…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97040" y="14616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embled the te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aded softw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gan documenting as-is proce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ed HBM forma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rted building the HNA EDI “bolt-on” for the H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 Movex 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5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vex e-Collaborator - XML over MQSe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ort all legacy EDI trans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olidate transactions with common trading partn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ased implementation by business subsystem – purchasing and A/P fir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The rules change, but the project survives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97040" y="14616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196560" indent="-19656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roject scope chang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-24552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GS put on hold – late 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-24552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ject UNITE – target ERP chang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6560" indent="-19656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ased mig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-24552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d to support Vallen ERP system temporari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-24552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 ERP is CamBar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6560" indent="-19656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cided to map Vallen EDI to ADF direct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-24552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ort term ne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-24552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len ADFs are very “EDI-like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-24552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wer Vallen interface changes requi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6560" indent="-19656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inue to develop HBM for CamB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6560" indent="-19656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i-state and Allied put on h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The rules change again…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97040" y="14616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ject UNITE cancelled late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mBar put on h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llen now longer term ne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sh we had mapped to the HB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andoned WW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rted using new architecture to meet new requirements (XML, CSV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duced Websphere Application Server (WA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s 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S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solution components now built in Ja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So what did we actually build?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ssage based integration hub using MQSe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Q enabled legacy application interfa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MQI used for routing and simple trans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programs used for utility func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ssage archiv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DI parser, search tool, comparison tool, rou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S used for https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QSS used for VAN traff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DI used for complex data trans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hallenges we encountered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CII-EBCDIC conver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cked and zoned decimal fiel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DI Segment delimi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rd bloc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message per trans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CR&gt;&lt;LF&gt; separa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F record lengths have to mat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Objectives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97040" y="14616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o are w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 WDI 3.2? Why Windows? Why DT map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id we plan to do i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id we actually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we are now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will it all en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hallenges we encountered (continued)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DI-MQSeries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file set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 character queue name lim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ical to physical filename mapp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T mapping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ck of loop function (XML large text field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-to-many transactions (outbound 82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y-to-one transactions (outbound 85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hallenges we encountered (continued)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DI 3.2 in general and the DT mapper in particular are actually new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version produ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y PM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ML support evolv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action store support evolv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ferences in how trading partners are handled – TP resolution, map rule selection, transaction store iss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5000"/>
              </a:lnSpc>
              <a:spcBef>
                <a:spcPts val="451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ces from one document type to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5000"/>
              </a:lnSpc>
              <a:spcBef>
                <a:spcPts val="451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ces from the way it works with S/R ma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Where are we today?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797040" y="14616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have migrated all Vallen VAN traffic to MQ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have MQ enabled all Vallen EDI application interfa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have developed DT maps for all Vallen transactions and trading partn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are currently migrating Vallen trading partners and maps to WD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When will it end?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797040" y="14616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6080" indent="-226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llen migration to WDI 3.2 complete in 20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grate CamBar to WDI 3.2 in 20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Web site under construction – to be integrated with all the legacy ER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requirements appear all the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-28296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 over the we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lnSpc>
                <a:spcPct val="105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1/AS2, HTTPs, SMTP, MQSeries, FTPs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-28296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l-time 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-28296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XML “standard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-28296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ERP in 2007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is a process – there is no end in s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Summary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72640" y="14317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 in progres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ules keep chan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uture is still uncertai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rchitecture is flexible enough to handle 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is better than expec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797040" y="14616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608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agemeijer &amp; Co. was established in the former Dutch East Indies (now Indonesia) in 1900. Today, Hagemeyer N.V. is headquartered in Naarden, Netherlands (near Amsterdam). The company has 22,000+ employees serving more than a million customers in 37 countries worldwid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608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agemeyer North America, Inc. (HNA), A wholly owned subsidiary of Hagemeyer N.V., is a wholesale distributor focusing on business-to-business markets in electrical, safety, and industrial products and services throughout North America. HNA’s 4900+ associates serve more than 100,000 customers from approximately 500 locations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Hagemeyer%20NA%20-%20COLOR" descr=""/>
          <p:cNvPicPr/>
          <p:nvPr/>
        </p:nvPicPr>
        <p:blipFill>
          <a:blip r:embed="rId1"/>
          <a:stretch/>
        </p:blipFill>
        <p:spPr>
          <a:xfrm>
            <a:off x="584280" y="654120"/>
            <a:ext cx="3022560" cy="52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Our environment when we started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97040" y="14616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198720" indent="-19872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gemeyer acquisitions in the U.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3040" indent="-24840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99–2000 Hagemeyer N.V. acquired 4 U.S. compani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meron &amp; Barkley Co. (CamBar) - ~55% of HNA s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3040" indent="-24840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S/390 – in-house ERP – DI2.1 transl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53040" indent="-24840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-40% of business transactions ED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llen Safety Supply – ~35 % of HNA s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3040" indent="-24840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/400 – in-house ERP – Harbinger TLE transl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53040" indent="-24840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-30% of business transactions ED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i-state Electrical Supply – ~8% of HNA s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3040" indent="-24840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IX – package ERP – minimal ED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ied Electrical – ~2% of HNA s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3040" indent="-24840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IX – modified package ERP - No ED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872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Hagemeyer Global Solution ( HGS)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97040" y="14616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ERP – Movex ERP on AS/400 plat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ple instances (3 OR 4) in Europe, Australia, and the U.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lt-on” solutions f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rehousing/logis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-Commerce (we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D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siness intellig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ased migration by Operating Comp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Major events in the timeline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97040" y="14616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gemeyer acquisitions in the US, Canada, and Mexico formally combine into Hagemeyer North America, Inc. (HN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ill operating on separate ERP systems as semi-independent operating companies (OpCo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NA OpCos sent associates to the Netherlands to participate on Hagemeyer Solution Teams (HST) developing and implementing the Hagemeyer Global Solution (HG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Major events in the timeline (continued…)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97040" y="14616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196560" indent="-19656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02 (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half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-24552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 HST reported that the HGS for EDI will not satisfy HNA requirements without a lot more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-24552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NA decided to build HNA specific EDI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0">
              <a:lnSpc>
                <a:spcPct val="105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NA does more than twice as much EDI as the rest of Hagemeyer combined. We hoped we could “sell” our solution to the rest of Hagemeyer when we were don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-24552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vex is still the target 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6560" indent="-19656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02 (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half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-24552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gemeyer put the entire HGS project “on hold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-24552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NA decided to migrate all US OpCos to one of our existing legacy systems (project Unite) – ERP target unkn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-24552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NA budget for HGS is re-allocated to project Un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Major events in the timeline (continued…)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97040" y="14616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03 (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half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te target ERP selected – CamBar system with mo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ased migration by customer segment and geograp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03 (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half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ject Unite postponed until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gration to common EDI solution continu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ple target ERP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st transactions using the new infrastructure go l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5000"/>
              </a:lnSpc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 XML based transa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dget allocated to HGS/Unite project runs out 12/31/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Major events in the timeline (continued…)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97040" y="14616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04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NA reorganizes EDI support resources into e-commerce Systems te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rst migrated transactions go live July 1, 20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5000"/>
              </a:lnSpc>
              <a:spcBef>
                <a:spcPts val="451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lete Vallen migration in 20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5000"/>
              </a:lnSpc>
              <a:spcBef>
                <a:spcPts val="451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lete CamBar migration in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5000"/>
              </a:lnSpc>
              <a:spcBef>
                <a:spcPts val="451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te project may have eliminated the other systems by 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9T21:59:50Z</dcterms:created>
  <dc:creator>Dave Schwartz</dc:creator>
  <dc:description/>
  <dc:language>en-US</dc:language>
  <cp:lastModifiedBy>Lee Edenfield</cp:lastModifiedBy>
  <dcterms:modified xsi:type="dcterms:W3CDTF">2004-07-16T14:54:07Z</dcterms:modified>
  <cp:revision>881</cp:revision>
  <dc:subject/>
  <dc:title>IBM Software Group</dc:title>
</cp:coreProperties>
</file>