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3B34A-8CAC-43F7-AFD1-15B20C4B31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3763F-AF48-45C7-A29D-CEEDD849C4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C5A8E-D720-4D2A-9FA7-5DFE51200A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C140E0-6D58-4DA5-88DE-9C8848F47A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056F89-5F82-4618-8BB7-086FB4D132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CF93EA-12AF-45D4-AE2F-5EFB28CB47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94D05-0FD3-485C-8039-CB0FC02696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A18A3-7561-4C1C-A492-87FCB9D30B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42127D-5389-40B8-A490-DA1C591D6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C92B1-AAE3-4750-933F-C1C1A85E7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20F62-C218-404B-8CFF-7D6C09FFD5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6A33C-FC10-4BC6-9ED0-7FDCD559A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983F66-8DA3-47C4-867D-6F95212E57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 txBox="1"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 txBox="1"/>
          <p:nvPr/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838080" y="2514600"/>
            <a:ext cx="7620120" cy="1828800"/>
          </a:xfrm>
          <a:prstGeom prst="rect">
            <a:avLst/>
          </a:prstGeom>
          <a:solidFill>
            <a:srgbClr val="ffffff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762120"/>
            <a:ext cx="7620120" cy="1828800"/>
          </a:xfrm>
          <a:prstGeom prst="rect">
            <a:avLst/>
          </a:prstGeom>
          <a:solidFill>
            <a:srgbClr val="ff66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 txBox="1"/>
          <p:nvPr/>
        </p:nvSpPr>
        <p:spPr>
          <a:xfrm>
            <a:off x="1066680" y="838080"/>
            <a:ext cx="7162920" cy="15242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908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Playbill"/>
              </a:rPr>
              <a:t>WinOdEan</a:t>
            </a:r>
            <a:endParaRPr b="0" lang="en-US" sz="2400" spc="1" strike="noStrike">
              <a:ln w="19080">
                <a:solidFill>
                  <a:srgbClr val="000000"/>
                </a:solidFill>
                <a:miter/>
              </a:ln>
              <a:solidFill>
                <a:srgbClr val="00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Playbill"/>
              <a:ea typeface="Playbill"/>
            </a:endParaRPr>
          </a:p>
        </p:txBody>
      </p:sp>
      <p:sp>
        <p:nvSpPr>
          <p:cNvPr id="46" name=""/>
          <p:cNvSpPr/>
          <p:nvPr/>
        </p:nvSpPr>
        <p:spPr>
          <a:xfrm>
            <a:off x="990720" y="2590920"/>
            <a:ext cx="76197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Window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90720" y="3124080"/>
            <a:ext cx="7391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Rockwell Extra Bold"/>
              </a:rPr>
              <a:t>Optimiz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990720" y="3733920"/>
            <a:ext cx="7467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Rockwell"/>
              </a:rPr>
              <a:t>Data Ent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838080" y="4343400"/>
            <a:ext cx="7620120" cy="1828800"/>
          </a:xfrm>
          <a:prstGeom prst="rect">
            <a:avLst/>
          </a:prstGeom>
          <a:solidFill>
            <a:srgbClr val="008000"/>
          </a:solidFill>
          <a:ln w="9360">
            <a:solidFill>
              <a:srgbClr val="ffff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914400" y="4724280"/>
            <a:ext cx="7543800" cy="923400"/>
          </a:xfrm>
          <a:prstGeom prst="rect">
            <a:avLst/>
          </a:prstGeom>
          <a:solidFill>
            <a:srgbClr val="008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Letter Gothic"/>
              </a:rPr>
              <a:t>Affinity Softwa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lbertus Medium"/>
              </a:rPr>
              <a:t>e-mail: affinity@vsnl.com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24T08:44:49Z</dcterms:created>
  <dc:creator>OPEY A.</dc:creator>
  <dc:description/>
  <dc:language>en-US</dc:language>
  <cp:lastModifiedBy>OPEY A.</cp:lastModifiedBy>
  <dcterms:modified xsi:type="dcterms:W3CDTF">1999-12-27T13:44:17Z</dcterms:modified>
  <cp:revision>12</cp:revision>
  <dc:subject/>
  <dc:title>No Slide Title</dc:title>
</cp:coreProperties>
</file>